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7DB-84C2-4AE3-8A2B-1B978680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0D3-6F3A-4881-ACA4-ECB83F54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2B5-EA69-4DB7-B71E-33D3197C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147-24EC-45CE-80CC-94209B7A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E73-DE3F-4283-A2D0-554D7134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E35-573D-46AC-AF48-DEE32228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AD0-028F-422A-BA59-A366CE20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E1F-81DD-4D52-8BDE-DE2B8229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045-4AAF-4818-9C00-EF6F1F80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5EB-7D70-4681-A2E3-95734CF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DD7-6C69-4355-8BD5-2F4AD2D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892-76ED-493D-9BFC-3EB6C72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186A-3AC0-4874-91EB-5EA683900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oat_of_arms_of_Liberia.pn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earch.live.com/images/results.aspx?q=map+of+liberia&amp;form=IIRE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ber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achel 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90280" y="316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liberia_flag.jpg"/>
          <p:cNvPicPr/>
          <p:nvPr/>
        </p:nvPicPr>
        <p:blipFill>
          <a:blip r:embed="rId2"/>
          <a:stretch/>
        </p:blipFill>
        <p:spPr>
          <a:xfrm>
            <a:off x="3886200" y="4572000"/>
            <a:ext cx="1523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West Coast of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dered by Sierra Leone, Guinea, Ivory Coast, and the Atlan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ly the Republic of L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Liberia - Country Profile - Republic of Libe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46"/>
            </a:gs>
            <a:gs pos="50000">
              <a:srgbClr val="cc0099"/>
            </a:gs>
            <a:gs pos="100000">
              <a:srgbClr val="5e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47, the colony of freed slaves declared independence and founded the Republic of Lib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d as a colony in 1822 by freed slaves from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989 to 2005 Liberia was in a state of flux, witnessing two civil wars, the First Liberian Civil War (1989–1996) and the Second Liberian Civil War (1999–200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Individ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n Johnson-Sirleaf is determined to become Liberia's president and to be the first woman to be elected as head of state i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ate 1989, a civil war began the Americo-Liberian named Charles Taylor with the backing of neighboring countries such as Burkina Faso and Cote d'Ivoire entered Nimba County with around 100 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gricultural products include goats, pigs, cattle and rice. Fish are raised on inland farms and caught along the co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Liberian economy depended heavily on iron ore and rubber exports, foreign direct investment, as well as the export of its other natural resources, such as timb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5e"/>
            </a:gs>
            <a:gs pos="50000">
              <a:srgbClr val="6600cc"/>
            </a:gs>
            <a:gs pos="100000">
              <a:srgbClr val="2f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and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ia has a long history in textile arts and qui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stimated that as much as 40 percent of the population of Liberia practices either Christianity or Christianity combined with elements of traditional indigenous religious belief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ia’s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09:27Z</dcterms:created>
  <dc:creator>rachelwilson</dc:creator>
  <dc:description/>
  <dc:language>en-US</dc:language>
  <cp:lastModifiedBy>LCS_user</cp:lastModifiedBy>
  <dcterms:modified xsi:type="dcterms:W3CDTF">2008-10-31T12:40:05Z</dcterms:modified>
  <cp:revision>3</cp:revision>
  <dc:subject/>
  <dc:title>Liberia</dc:title>
</cp:coreProperties>
</file>